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A68-297F-4CAB-B3E1-DC2C3849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3F9-EE93-44FD-A6EE-F12AF4CE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B5B-C8DD-4A0D-B4EF-656611DB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706-4A0B-420B-9A72-3D7FE464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0FC-E9C0-4275-BCDB-927639E8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DD3-81B5-4B24-9D95-59672A64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D08-AABA-4B25-A7DB-51E34B33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154-0A11-4B36-AC75-16B26893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BE5-B787-4021-9D16-7B2BB59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108-76F4-4906-8A33-C7D1305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297-5853-4C47-A9FF-A497071B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829-21E8-468F-B889-2DE62DF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9A8B-F445-495A-878E-1EB654AAC3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24 Grupo"/>
          <p:cNvGrpSpPr/>
          <p:nvPr/>
        </p:nvGrpSpPr>
        <p:grpSpPr>
          <a:xfrm>
            <a:off x="1440" y="0"/>
            <a:ext cx="9323640" cy="6858000"/>
            <a:chOff x="1440" y="0"/>
            <a:chExt cx="9323640" cy="6858000"/>
          </a:xfrm>
        </p:grpSpPr>
        <p:pic>
          <p:nvPicPr>
            <p:cNvPr id="42" name="15 Imagen" descr="arrancauna_alta.jpg"/>
            <p:cNvPicPr/>
            <p:nvPr/>
          </p:nvPicPr>
          <p:blipFill>
            <a:blip r:embed="rId1"/>
            <a:stretch/>
          </p:blipFill>
          <p:spPr>
            <a:xfrm>
              <a:off x="1440" y="0"/>
              <a:ext cx="91407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9 CuadroTexto"/>
            <p:cNvSpPr/>
            <p:nvPr/>
          </p:nvSpPr>
          <p:spPr>
            <a:xfrm>
              <a:off x="3526920" y="1629000"/>
              <a:ext cx="561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(Escribe aquí tu nombre, piso, puesto, departament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10 CuadroTexto"/>
            <p:cNvSpPr/>
            <p:nvPr/>
          </p:nvSpPr>
          <p:spPr>
            <a:xfrm>
              <a:off x="4067640" y="2076480"/>
              <a:ext cx="52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(Pon aquí tu parentesc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12 CuadroTexto"/>
            <p:cNvSpPr/>
            <p:nvPr/>
          </p:nvSpPr>
          <p:spPr>
            <a:xfrm rot="10800000">
              <a:off x="250200" y="4292640"/>
              <a:ext cx="60660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12 CuadroTexto"/>
            <p:cNvSpPr/>
            <p:nvPr/>
          </p:nvSpPr>
          <p:spPr>
            <a:xfrm rot="10800000">
              <a:off x="1258560" y="4292640"/>
              <a:ext cx="606600" cy="24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12 CuadroTexto"/>
            <p:cNvSpPr/>
            <p:nvPr/>
          </p:nvSpPr>
          <p:spPr>
            <a:xfrm rot="10800000">
              <a:off x="2266920" y="4220640"/>
              <a:ext cx="606600" cy="25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12 CuadroTexto"/>
            <p:cNvSpPr/>
            <p:nvPr/>
          </p:nvSpPr>
          <p:spPr>
            <a:xfrm rot="10800000">
              <a:off x="3347280" y="4220640"/>
              <a:ext cx="606600" cy="25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12 CuadroTexto"/>
            <p:cNvSpPr/>
            <p:nvPr/>
          </p:nvSpPr>
          <p:spPr>
            <a:xfrm rot="10800000">
              <a:off x="4355640" y="4337280"/>
              <a:ext cx="606600" cy="24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2 CuadroTexto"/>
            <p:cNvSpPr/>
            <p:nvPr/>
          </p:nvSpPr>
          <p:spPr>
            <a:xfrm rot="10800000">
              <a:off x="5364000" y="4436640"/>
              <a:ext cx="606600" cy="23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12 CuadroTexto"/>
            <p:cNvSpPr/>
            <p:nvPr/>
          </p:nvSpPr>
          <p:spPr>
            <a:xfrm rot="10800000">
              <a:off x="6388560" y="4508640"/>
              <a:ext cx="60660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12 CuadroTexto"/>
            <p:cNvSpPr/>
            <p:nvPr/>
          </p:nvSpPr>
          <p:spPr>
            <a:xfrm rot="10800000">
              <a:off x="7452720" y="4436640"/>
              <a:ext cx="606600" cy="23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12 CuadroTexto"/>
            <p:cNvSpPr/>
            <p:nvPr/>
          </p:nvSpPr>
          <p:spPr>
            <a:xfrm rot="10800000">
              <a:off x="8529120" y="4292640"/>
              <a:ext cx="606600" cy="24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scribe tu nombre, teléfono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Calibri"/>
                </a:rPr>
                <a:t>email, piso, departamento…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1:55:35Z</dcterms:created>
  <dc:creator>PC3</dc:creator>
  <dc:description/>
  <dc:language>en-US</dc:language>
  <cp:lastModifiedBy>HP-DISENO-02</cp:lastModifiedBy>
  <dcterms:modified xsi:type="dcterms:W3CDTF">2011-06-22T08:38:41Z</dcterms:modified>
  <cp:revision>41</cp:revision>
  <dc:subject/>
  <dc:title>Diapositiva 1</dc:title>
</cp:coreProperties>
</file>